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62C6-8AE1-4FB8-B113-87187BAB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E692-C5F4-4A48-87B5-8AE2AE57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A6C6-948E-4D45-BCBA-F76B2F8A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617C-0C13-479E-A4AF-6F6D78BB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2E79-4A60-44A2-8728-3DC5BEF3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9851-2F02-463F-987F-BDDD9A04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5AF9-1964-479E-8B43-3EA0579F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6FDF-A20E-419F-AB90-64F7F172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C299-D832-4827-8C14-CC48949A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1B27-97DE-40FC-B410-50A574E4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E48E-0793-4515-9A8B-AF5A21B7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7E5-E75F-40D9-9764-3BDB3969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49F6-76B5-428C-8DD1-547664FD9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tler </a:t>
            </a:r>
            <a:r>
              <a:rPr b="0" lang="en-US" sz="4800" spc="-1" strike="noStrike">
                <a:solidFill>
                  <a:srgbClr val="9f0514"/>
                </a:solidFill>
                <a:latin typeface="Arial"/>
              </a:rPr>
              <a:t>Naz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erm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oca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zi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Life Hit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ping out  of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th of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2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tler WW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tler join ww1 19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po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friend ki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temporarily blinded by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 war/ Nazi P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19 Hitler joins political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23 Hitler kidnaps leaders of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months in p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Nazi P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t up new Nazi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ly rose up to poli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30 Nazi party becomes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rgest party in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33 Hitler become leader of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’s to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8:46:15Z</dcterms:created>
  <dc:creator>214031</dc:creator>
  <dc:description/>
  <dc:language>en-US</dc:language>
  <cp:lastModifiedBy>214031</cp:lastModifiedBy>
  <dcterms:modified xsi:type="dcterms:W3CDTF">2010-04-12T19:36:09Z</dcterms:modified>
  <cp:revision>3</cp:revision>
  <dc:subject/>
  <dc:title>Hitler Nazi Germany</dc:title>
</cp:coreProperties>
</file>